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9587-A41D-4D47-BB45-9BEBCC6035B7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D1FD-0BE4-4BA1-8304-B6EBC5DA03D1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29B0-4174-4637-AE9A-344BEB2CA76E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D13D-9A3B-45AF-B9D2-C7882BFFDD3D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8B8-3B2B-4765-876D-EDE4E2D8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A35-36B7-48A5-88C0-58471F64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12F-D4C9-4191-A350-783F7DE4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1235-8191-4B63-9352-159E2700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FA8-A0D5-430D-9974-1C699617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3C8-81E1-4A8F-87E4-408F09B8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BD6-55C3-4148-9EEC-9DEAD5F3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779-70D2-4046-98E6-956EB543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4E2-3C9F-413B-A05E-FAF5EEAB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8B4-6332-43A5-B3F6-E1165E2F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F4B-3ED7-4496-87F5-FE7EC2CA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8C3-DDBC-4F43-B755-9949CC2A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77C3-ED14-4E6A-BD0B-2E05EDC61D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F034-B413-4AEC-BBF8-67A54AC42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riff-based competitive bidding for procurement of 2000 MW of solar power in Telangan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d Deadline : 15 May 2015, 17:00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(Southern Power Distribution Company of Telangana Limit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Procurers: TSSPDCL and TSN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594360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Note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terms and conditions mentioned in this PPT are subject to revised RfS and PPA to be upload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9903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ll Bid parameters are ranked from lowest to highest and allocation shall start from Bidder with first rank i.e.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west tariff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. In case bid parameters for two bids is the same, then the  bid corresponding to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offered capacity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given better rank. If both bid parameter and offered capacity are the same, bidder demonstrating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net worth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s given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Financial Bids can be submitted by the Bidder. But allocation will happen in the stacking order of bid parameter only. Hence a bidder may have more than one position in the ranking order depending on the number of financial bids sub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of Bids and allocation of Interconnection Substations (1/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00360" y="4038480"/>
            <a:ext cx="1866960" cy="190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680" y="4267080"/>
          <a:ext cx="8443800" cy="2479680"/>
        </p:xfrm>
        <a:graphic>
          <a:graphicData uri="http://schemas.openxmlformats.org/drawingml/2006/table">
            <a:tbl>
              <a:tblPr/>
              <a:tblGrid>
                <a:gridCol w="1785960"/>
                <a:gridCol w="1035000"/>
                <a:gridCol w="917640"/>
                <a:gridCol w="917640"/>
                <a:gridCol w="917280"/>
                <a:gridCol w="917640"/>
                <a:gridCol w="919080"/>
                <a:gridCol w="103356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d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(Rs/un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 (Rs C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78" name="Oval 9"/>
          <p:cNvSpPr/>
          <p:nvPr/>
        </p:nvSpPr>
        <p:spPr>
          <a:xfrm>
            <a:off x="6515280" y="4452840"/>
            <a:ext cx="2171520" cy="194796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09880" y="4529160"/>
            <a:ext cx="2133720" cy="118584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0E2E-544B-48D3-BD3A-4463E1050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lustration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umbers and values used for substations are purely representa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3D13-9807-467B-87DC-A4379F685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85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15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88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91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94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 in MW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"/>
          <p:cNvSpPr/>
          <p:nvPr/>
        </p:nvSpPr>
        <p:spPr>
          <a:xfrm>
            <a:off x="6048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577600" y="3220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adnagar can accommodate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8AD3-CEA3-4652-9C80-3150E0355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1.48148E-006 L 0.0448 0.18125 C 0.05764 0.21968 0.06476 0.27662 0.06476 0.33634 C 0.06476 0.40417 0.05764 0.4581 0.0448 0.49653 L -0.01076 0.67824 E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1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7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1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2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2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2400" y="54784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570400" y="3220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ltoor can accommodate 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28600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AE66-1075-44E7-984F-A93EC8DE8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44444E-006 L -0.04288 0.18125 C -0.05 0.21945 -0.05399 0.27662 -0.05399 0.33635 C -0.05399 0.40394 -0.05 0.45811 -0.04288 0.4963 L -0.01076 0.67778 E"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43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46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49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52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A33E-0DD2-43FE-BB39-BAB51E1DB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7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7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8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8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4459-678B-48F0-8C1E-C16DB48EB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4941 0.73333 E">
                                      <p:cBhvr>
                                        <p:cTn id="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07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10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13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16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35800" y="2981160"/>
            <a:ext cx="87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3 selected 70 MW at Shadnagar in First Round and did not participate in the Seco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D1FC-22AE-44D6-9444-9522156B7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38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41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44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47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3D96-81FC-42E8-A228-C1BD9D31B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71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74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77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80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751800" y="84924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-47520" y="347976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4 opted to participate in 2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balance 50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926F-7755-431D-BFB1-D61293302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4.81481E-006 L -0.47986 0.7338 E">
                                      <p:cBhvr>
                                        <p:cTn id="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is presenta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a summ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Bid Model for the Telangana solar tender. The model essentially revolves around a distributed generation format with projects connected at 33kV, 132 kV and 220 kV voltage 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dders have to rely on the bid documents available on the website for all the terms and conditions applicable for the Bid. This presentation only provides a quick overview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mprehen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nature. In the event of any discrepancy between this presentation and the bid documents, the bid documents will overrule this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ttempts to provide clarifications on some of the queries raised by the Bidders but Bidders should solely rely on the clarifications/amendments issued by the Authorized Representative on the eProcurement platform/website as the case may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7431-6BE9-41C4-A8E6-285ABA428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839080" cy="6616800"/>
        </p:xfrm>
        <a:graphic>
          <a:graphicData uri="http://schemas.openxmlformats.org/drawingml/2006/table">
            <a:tbl>
              <a:tblPr/>
              <a:tblGrid>
                <a:gridCol w="2819520"/>
                <a:gridCol w="6019560"/>
              </a:tblGrid>
              <a:tr h="387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33/11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on double circuit line at 220/132 kV or 400/220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(technology agnostic within P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10 Lakhs/MW through BG (210 days from bid deadline) for each Financial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ase of foreign companies, Indian affiliate can furnish bank guarantee along with additional documents mention in R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 Thousand (Rs 10,000/-) per MW of Offered Capacity subject to a maximum of Rs One Lakh (Rs 1,00,000) for each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Bank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20 Lakhs/MW per Project in three BG (15%, 35% and 50%) valid for 18 months from signing of PPA (PBG to be submitted within 30 days of issue of LOI failing which EMD will be forfe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Eligibility: Commercial and technically proven technologies to be ado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: INR 2 crore/MW of Bi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, Partnerships, Individuals, foreign companies, LLC are e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 Consortiums are not eligible for participation in this RF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s, foreign companies, foreign individuals must create project companies with equity infused to INR 0.6 Cr/MW by PPA signing and INR 1.4 Cr/MW by financial 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FF1F-FE99-45E4-9AB7-6D5BCC816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304920"/>
          <a:ext cx="883944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6019920"/>
              </a:tblGrid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ID proof and Address Proof for Ind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port copy for Foreig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return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for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d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 for financially evaluated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poration documents (CoI, MoA and A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/Board Resolution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 of affiliate if financials are used for meeting minimum networth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rt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member of consortium must submit the above documents as applic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lead member (Individuals and Partnershi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/Power of Attorney in favour of Lead Member for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F138-9B84-40BE-95CE-00F2CD306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58760"/>
          <a:ext cx="8686800" cy="6165720"/>
        </p:xfrm>
        <a:graphic>
          <a:graphicData uri="http://schemas.openxmlformats.org/drawingml/2006/table">
            <a:tbl>
              <a:tblPr/>
              <a:tblGrid>
                <a:gridCol w="3048120"/>
                <a:gridCol w="5638680"/>
              </a:tblGrid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 ba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PA issued in April 2015 with relevant modific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years from C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commissio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financial closure and conditions subsequ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day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 infu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of requirement before PPA execution and balance before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ocation/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hanged till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obligations of develop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all consents and clear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, financing, construction, owning and operating the power s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nterconnection facilities till Interconnection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and maintenance of power plant to conform with RLDC/SLDC/TSTRANSCO/IEGC n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enalties for lower 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beyond 25% CUF will be billed at 50% of applicable tariff for that 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Dispa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energy for DISCOMS’ exclusive benef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ed Energy prior to COD shall be purchased at Quoted Tari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te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bill payment. Rebate and Late payment interest provided</a:t>
                      </a:r>
                      <a:br>
                        <a:rPr sz="1500"/>
                      </a:b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security is letter of cred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AC57-84E6-4B2E-8D3F-3347428B3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ef Overview and Project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85800"/>
          <a:ext cx="8229600" cy="599436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36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Lo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is free to set up Projects anywhere in the St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/Project site can be changed until financial clos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Delivery Voltage of 33 kV at 33/11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(double circuit line) 220 kV Delivery Voltage at 400/220 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pacity Limits defined at each voltage level and at each s/s category under Annexure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connection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Project shall be connected to a single Interconnection Substation. It is the onus of the Bidder to demonstrate that Project(s) proposed have distinct boundaries, to the satisfaction of the Authorized Represent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any substation can have multiple projects connected to it depending on available capacity specified in the R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shall submit a List of Preferred Interconnection Substations (At least 1 and upto 10) where he intends to connect the entire Offered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 (in order of bid parameter) shall be done in the order of the preference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ter issue of LOI, Interconnection Substation cannot be chang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B9DC-DD83-4729-B6D6-88E7F7466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06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iff, Evaluation and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609480"/>
          <a:ext cx="8686800" cy="336888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  <a:gridCol w="281952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Options (all tariffs for evaluation and payment shall be on Tariff Year basi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Year shall mean 365 days from COD and last Tariff Year shall end on expiry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quotes a single Quoted Tariff uniformly applicable for the entire term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is Quoted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ed Tariff shall be applicable for the entire term of the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livered energy prior to the COD of the Project shall be purchased at tariff of first Tariff Ye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4373640"/>
            <a:ext cx="868680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4038480"/>
            <a:ext cx="8686800" cy="33516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FDB2-7722-46AF-BDED-7A6A8E924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1 Bids (injecting at 33/11 kV s/s) and Group 2 Bids (injecting at EHT s/s of 132/33 kV and above) shall be evaluated separately and process of allocation will be separate for these two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ocation will be undertaken for Group 1 Bids first, followed by Group 2 B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1266-BEF7-4B4C-BA61-19A351C83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240" y="685800"/>
            <a:ext cx="5989680" cy="5521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ion on capacity limit fo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73920" y="1184400"/>
            <a:ext cx="2895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 capacity constraint supersedes sum of all subst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hbubnagar’s capacity for group I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capacities of s/s (132/33 kV) under Mahbubnagar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ies shall be allocated till 100 MW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27 MW in Mahbub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7AD5-2ED3-4D3F-997D-B3FB8848A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240" y="6186600"/>
            <a:ext cx="59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uthorized Representative reserves the right to change the Requisitioned Capacity as specified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PMG</dc:creator>
  <dc:description/>
  <dc:language>en-US</dc:language>
  <cp:lastModifiedBy>ipc</cp:lastModifiedBy>
  <dcterms:modified xsi:type="dcterms:W3CDTF">2015-04-22T08:34:29Z</dcterms:modified>
  <cp:revision>211</cp:revision>
  <dc:subject/>
  <dc:title>Competitive bidding for procurement of 500 MW of solar power – An overview</dc:title>
</cp:coreProperties>
</file>